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C484-C643-4771-A872-ED5BEC389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B497-03BD-46BA-A5D4-96AB3D0C8C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9569-8793-4FCA-A951-1EF588C7F5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E1ED8040-D8A8-4D1B-8283-0EDF156DFC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D4B1-1B4B-4EA0-BAEA-8D1F8E095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7907-F23A-4A7A-885D-9D15CCE09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585C-457D-488A-8C6B-B4767A8BE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451F-3026-493A-BC67-BEC7D5EEF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66F9-5006-4082-AF9B-572EBA92B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1076-E542-4CC9-95DB-A7AFC2BEA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00E6-43F9-4771-A496-C6D368430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E44A-9DF7-44A5-ADAE-B11765B4D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E6EF-547F-41D7-9578-5F8485F2C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809A-D9BC-4566-A68D-A422CAB4F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6B9A-E70A-4F05-85BD-45DCABD8C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44C7-4DE9-4DD8-B5E1-45348FFB6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0C32-8578-4E86-987A-B480401C495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1763640" y="6218280"/>
            <a:ext cx="600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86040" y="2499840"/>
            <a:ext cx="56246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ssion 3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gricultural Growth &amp;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Protection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ynergies and Contradictions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60" y="5143320"/>
            <a:ext cx="85726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Seminar on hot topics in agri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Bruxelles, 12-14 July 201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714240"/>
            <a:ext cx="381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itle 2"/>
          <p:cNvSpPr/>
          <p:nvPr/>
        </p:nvSpPr>
        <p:spPr>
          <a:xfrm>
            <a:off x="3059280" y="443700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Nicholas Free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150192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Based on balanced allocation of budgetary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AAD2-7283-4B3C-81C9-CB3E4DC63D3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10"/>
          <p:cNvSpPr/>
          <p:nvPr/>
        </p:nvSpPr>
        <p:spPr>
          <a:xfrm>
            <a:off x="500040" y="857160"/>
            <a:ext cx="5572080" cy="5357880"/>
          </a:xfrm>
          <a:prstGeom prst="roundRect">
            <a:avLst>
              <a:gd name="adj" fmla="val 25963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ounded Rectangle 9"/>
          <p:cNvSpPr/>
          <p:nvPr/>
        </p:nvSpPr>
        <p:spPr>
          <a:xfrm>
            <a:off x="3429000" y="857160"/>
            <a:ext cx="5143680" cy="5357880"/>
          </a:xfrm>
          <a:custGeom>
            <a:avLst/>
            <a:gdLst>
              <a:gd name="textAreaLeft" fmla="*/ 390960 w 5143680"/>
              <a:gd name="textAreaRight" fmla="*/ 4752720 w 5143680"/>
              <a:gd name="textAreaTop" fmla="*/ 390960 h 5357880"/>
              <a:gd name="textAreaBottom" fmla="*/ 4966920 h 5357880"/>
            </a:gdLst>
            <a:ahLst/>
            <a:rect l="textAreaLeft" t="textAreaTop" r="textAreaRight" b="textAreaBottom"/>
            <a:pathLst>
              <a:path w="21600" h="22499">
                <a:moveTo>
                  <a:pt x="5608" y="0"/>
                </a:moveTo>
                <a:arcTo wR="5608" hR="5608" stAng="16200000" swAng="-5400000"/>
                <a:lnTo>
                  <a:pt x="0" y="16891"/>
                </a:lnTo>
                <a:arcTo wR="5608" hR="5608" stAng="10800000" swAng="-5400000"/>
                <a:lnTo>
                  <a:pt x="15992" y="22499"/>
                </a:lnTo>
                <a:arcTo wR="5608" hR="5608" stAng="5400000" swAng="-5400000"/>
                <a:lnTo>
                  <a:pt x="21600" y="5608"/>
                </a:lnTo>
                <a:arcTo wR="5608" hR="5608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3920" y="928800"/>
            <a:ext cx="72867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nd re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-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p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 subsi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GR/pric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ublic 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h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od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ool me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r. fe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3200" y="928800"/>
            <a:ext cx="4827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B176-F87F-4B95-BA2F-F3D3B7DC8319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42960" y="30718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286680" y="288756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13"/>
          <p:cNvSpPr/>
          <p:nvPr/>
        </p:nvSpPr>
        <p:spPr>
          <a:xfrm rot="16200000">
            <a:off x="-2473920" y="3300480"/>
            <a:ext cx="55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oorest                                  Least Po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Straight Arrow Connector 15"/>
          <p:cNvCxnSpPr/>
          <p:nvPr/>
        </p:nvCxnSpPr>
        <p:spPr>
          <a:xfrm flipV="1">
            <a:off x="356040" y="2356560"/>
            <a:ext cx="1080" cy="271548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1" name="TextBox 20"/>
          <p:cNvSpPr/>
          <p:nvPr/>
        </p:nvSpPr>
        <p:spPr>
          <a:xfrm rot="16200000">
            <a:off x="5986080" y="34437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rovision      Prevention     Pro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Straight Arrow Connector 22"/>
          <p:cNvCxnSpPr/>
          <p:nvPr/>
        </p:nvCxnSpPr>
        <p:spPr>
          <a:xfrm flipH="1" flipV="1">
            <a:off x="8786160" y="428544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Straight Arrow Connector 25"/>
          <p:cNvCxnSpPr/>
          <p:nvPr/>
        </p:nvCxnSpPr>
        <p:spPr>
          <a:xfrm flipH="1" flipV="1">
            <a:off x="8786160" y="242820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AND REFORM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facilitate access to credit as collat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allow exit from agriculture through s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benefit for landl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or benefit for small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impacts on excluded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increase vulnerability of sell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75FA-E9B6-4571-8BD5-0049523AE2A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FRASTRUCTUR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sts of transport/com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nsum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as towards commercial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by-pass poores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apit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 maintenance/ deteri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18A7-F5C6-45BA-B0D7-90A3140EC30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ICRO-CREDIT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comes critica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s income and agric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est won’t take the risk of 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defa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00C0-9800-4069-B10A-271F6727446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ROP INSURANC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s investment in higher retur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well suited to small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many successful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418D-1842-49FE-BCD9-FB2249A8DDF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PUT SUBSIDIE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ck-start pro-poor growth (eg As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st benefits captured by the better-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efficient use of inp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kage across bor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cash transfer to the poo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lude those without land or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665B-2505-4DDF-A80D-52314C16C91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GR/PRICE CONTROL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price vola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motes food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impact of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xed impact of high/ low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bour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political intere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stabilisation role of private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458C-FA38-492D-B47E-2B7ED6CEB4B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UBLIC WORK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2174760"/>
            <a:ext cx="42861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useful assets/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househol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timulate labour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uld be demand- not supply-driven (NREG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sible multiplier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on-farm labour avail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lf”-targeting excludes those without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low market wage rates perpetuate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t benefit is mar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876-B33B-444C-98DB-E161DB5736A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SSET TRAN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agric assets and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divers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ulnerability of asset to loss/th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ed for training and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may be sold before investment is maximi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B6E4-2DCE-4E44-9242-8B6927AE338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parate Policy Domains?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gricultural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5480" y="2174760"/>
            <a:ext cx="42116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633B-FA64-43DD-BB22-DFEF1CBBE10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ASH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buy local food, stimulates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s education, health, agric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ltiplier effects in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nger of inflation in weak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reduced value of transfer if prices r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802E-8F78-4B3C-ABDB-0E9C9526B71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OOD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can support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health and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’l purchase is disincentive to local produ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iangular purchase may shift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may create inflation and distort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wd out private sector trade/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257D-9CC2-455B-BD0C-E7FA8DFB6B0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CHOOL MEAL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earning out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t intergenerational transmission of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ong-term quality of agric/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undermine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trans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sion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BD0F-26CC-4A0E-BD23-DE53CF52F60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RAPEUTIC FEEDING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d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tential for local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9C8A-24A9-497D-AB3D-8F38BACB307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“</a:t>
            </a: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ix Point Policy Agenda”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(Devereux, 2009)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680" y="1500120"/>
            <a:ext cx="82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t inputs to farmers on time and at affordable pr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engthen rural markets to stabilise commodity prices, especially of staple fo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 essential rural infrastructure and enabling institu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ure vulnerable farmers against agricultural risk, for instance with innovative mechanisms such as weather‑indexed insurance schemes and guaranteed employment legis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e away from imported food aid towards local sourcing and/or cash transfers wherever local markets and cultural contexts (specifically gender relations) permit th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lare a moratorium on small‑scale ‘pilot projects’ and support permanent national social protection programmes that are integrated into broader agricultural and development poli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914F-7B2A-49B2-8789-16540425141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4279680" cy="2798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755640" y="3068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c543"/>
                </a:solidFill>
                <a:latin typeface="Vrinda"/>
              </a:rPr>
              <a:t>www.wahenga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900000" y="4122720"/>
            <a:ext cx="7442280" cy="1096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0" y="6659640"/>
            <a:ext cx="9144000" cy="22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0" y="5759280"/>
            <a:ext cx="9144000" cy="804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5"/>
          <a:stretch/>
        </p:blipFill>
        <p:spPr>
          <a:xfrm>
            <a:off x="0" y="5400720"/>
            <a:ext cx="9144000" cy="2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C0D2-F82D-4917-A226-E7C0C3BDCF5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0200-5F38-4933-8409-805CC383247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924E-7CD2-40D6-A757-DB330C65BCB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E5DC-D6DC-4643-8D2F-285F09CB4DA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80F1-CBDF-4627-9862-DD7EF6EAB0E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0BCD-60C0-40D1-B6C3-D0E8A7C4485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0F68-700A-4438-B7E3-F38FE373AE8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7:31:47Z</dcterms:created>
  <dc:creator>John Rook</dc:creator>
  <dc:description/>
  <dc:language>en-US</dc:language>
  <cp:lastModifiedBy>x55b078</cp:lastModifiedBy>
  <dcterms:modified xsi:type="dcterms:W3CDTF">2010-07-13T07:16:20Z</dcterms:modified>
  <cp:revision>128</cp:revision>
  <dc:subject/>
  <dc:title>PowerPoint Presentation</dc:title>
</cp:coreProperties>
</file>